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110-8C38-49CB-8B0B-B7D8250A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D13-C5B2-45BE-B38C-69B048F5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060-A229-4CA8-9149-DDB36209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06E-DB2B-4411-A95B-502D73A9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7EE5-59E2-45F3-B67C-3A9B203A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7E00-90AB-4F8B-9D95-0D8B1CA2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D6BC-C344-4112-AAFD-88A44BC1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B84D-3AD5-469C-8CFA-1E3A6A5A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2216-3517-4A50-AFF5-E148F078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5919-D847-40C9-8110-F52E54BD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965B-F1AF-44F3-A6A6-50D4C8FE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63B-E72E-4231-81B7-767E926C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A673-470B-4F57-820A-2984DD59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F0F1-DAE7-45B7-BDAA-FD98F29F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8056-7A4A-4977-8D42-4D73BCCF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DE1A-BBDB-4174-8D61-D7CDBFBF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13B2-0647-44B6-8AC0-530518A6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F35-376E-459F-95EC-2A2B822B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11D-0B76-47EA-BE59-24403CFC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C7B-24BF-4FDE-ABBC-F4311288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65E-E30E-4A93-8DC8-7F85F5D8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CE2-E577-4821-B896-321CEE2C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24B-0B5E-4BBD-894D-D1DB03B3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EEB-BCB8-4723-9C4E-5B116CEA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D1C4-5ADC-4433-B1FF-6A124962DA3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E6FC-87B5-4EFB-92B5-4FB60777443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5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63200" cy="659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9"/>
          <p:cNvPicPr/>
          <p:nvPr/>
        </p:nvPicPr>
        <p:blipFill>
          <a:blip r:embed="rId2"/>
          <a:stretch/>
        </p:blipFill>
        <p:spPr>
          <a:xfrm>
            <a:off x="179280" y="4797360"/>
            <a:ext cx="2594160" cy="18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3"/>
          <p:cNvPicPr/>
          <p:nvPr/>
        </p:nvPicPr>
        <p:blipFill>
          <a:blip r:embed="rId3"/>
          <a:stretch/>
        </p:blipFill>
        <p:spPr>
          <a:xfrm>
            <a:off x="6516720" y="4797360"/>
            <a:ext cx="2374920" cy="17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10"/>
          <p:cNvPicPr/>
          <p:nvPr/>
        </p:nvPicPr>
        <p:blipFill>
          <a:blip r:embed="rId4"/>
          <a:stretch/>
        </p:blipFill>
        <p:spPr>
          <a:xfrm>
            <a:off x="3348000" y="4005360"/>
            <a:ext cx="2736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1 квартал 2021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214280" y="1071720"/>
            <a:ext cx="73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государственные воп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Содержимое 6"/>
          <p:cNvGraphicFramePr/>
          <p:nvPr/>
        </p:nvGraphicFramePr>
        <p:xfrm>
          <a:off x="395280" y="1557360"/>
          <a:ext cx="833112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833112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1 квартал 2021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Овал 3"/>
          <p:cNvSpPr/>
          <p:nvPr/>
        </p:nvSpPr>
        <p:spPr>
          <a:xfrm>
            <a:off x="395280" y="1484280"/>
            <a:ext cx="8280360" cy="172872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,0 тыс. рублей (20,8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1 квартал 2021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Овал 3"/>
          <p:cNvSpPr/>
          <p:nvPr/>
        </p:nvSpPr>
        <p:spPr>
          <a:xfrm>
            <a:off x="1528920" y="1652760"/>
            <a:ext cx="6265800" cy="14414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ая эконом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84,1 тыс. рублей (26,4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Блок-схема: альтернативный процесс 16"/>
          <p:cNvSpPr/>
          <p:nvPr/>
        </p:nvSpPr>
        <p:spPr>
          <a:xfrm>
            <a:off x="108000" y="3357720"/>
            <a:ext cx="4968720" cy="122688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рожное хозяйство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дорожные фонды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84,1 тыс. рублей (28,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" name="Прямая со стрелкой 22"/>
          <p:cNvCxnSpPr/>
          <p:nvPr/>
        </p:nvCxnSpPr>
        <p:spPr>
          <a:xfrm>
            <a:off x="4859280" y="3094200"/>
            <a:ext cx="1658160" cy="15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Блок-схема: альтернативный процесс 33"/>
          <p:cNvSpPr/>
          <p:nvPr/>
        </p:nvSpPr>
        <p:spPr>
          <a:xfrm>
            <a:off x="4500720" y="4653000"/>
            <a:ext cx="4370400" cy="198900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ругие вопросы в области национальной экономики  0,0 тыс. рублей  (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5349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5"/>
          <p:cNvSpPr/>
          <p:nvPr/>
        </p:nvSpPr>
        <p:spPr>
          <a:xfrm>
            <a:off x="158760" y="25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1 квартал 2021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71680" y="1214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ая эконом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Диаграмма 4"/>
          <p:cNvGraphicFramePr/>
          <p:nvPr/>
        </p:nvGraphicFramePr>
        <p:xfrm>
          <a:off x="1332000" y="1952640"/>
          <a:ext cx="619740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52640"/>
                    <a:ext cx="6197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1 квартал 2021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Овал 3"/>
          <p:cNvSpPr/>
          <p:nvPr/>
        </p:nvSpPr>
        <p:spPr>
          <a:xfrm>
            <a:off x="1403280" y="1125360"/>
            <a:ext cx="6265800" cy="14385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Жилищно-коммунальн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79,2 тыс. рублей (0, 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Блок-схема: альтернативный процесс 18"/>
          <p:cNvSpPr/>
          <p:nvPr/>
        </p:nvSpPr>
        <p:spPr>
          <a:xfrm>
            <a:off x="2771640" y="4221000"/>
            <a:ext cx="3888000" cy="223236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по техническому обслуживанию газопроводов в рамках подпрограммы «Создание условий для обеспечения качественными жилищно-коммунальными услугами населения Митякинского сельского поселения» муниципальной программы «Обеспечение качественными услугами населения Митякинского сельского поселе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77,6 тыс. рублей (19,4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Блок-схема: альтернативный процесс 33"/>
          <p:cNvSpPr/>
          <p:nvPr/>
        </p:nvSpPr>
        <p:spPr>
          <a:xfrm>
            <a:off x="5148360" y="2852640"/>
            <a:ext cx="2786040" cy="74448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Коммунальное хозяйст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77,6 тыс. рублей (19,4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Прямая со стрелкой 34"/>
          <p:cNvCxnSpPr>
            <a:stCxn id="130" idx="6"/>
            <a:endCxn id="132" idx="0"/>
          </p:cNvCxnSpPr>
          <p:nvPr/>
        </p:nvCxnSpPr>
        <p:spPr>
          <a:xfrm flipH="1">
            <a:off x="6541200" y="1844640"/>
            <a:ext cx="11278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Блок-схема: альтернативный процесс 52"/>
          <p:cNvSpPr/>
          <p:nvPr/>
        </p:nvSpPr>
        <p:spPr>
          <a:xfrm>
            <a:off x="395280" y="2708280"/>
            <a:ext cx="2787480" cy="9302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Благоустрой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Times New Roman"/>
              </a:rPr>
              <a:t>1,6 тыс. рублей (0,1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5" name="Прямая со стрелкой 53"/>
          <p:cNvCxnSpPr>
            <a:stCxn id="130" idx="4"/>
            <a:endCxn id="134" idx="0"/>
          </p:cNvCxnSpPr>
          <p:nvPr/>
        </p:nvCxnSpPr>
        <p:spPr>
          <a:xfrm flipH="1">
            <a:off x="1788480" y="2563560"/>
            <a:ext cx="27486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Прямая со стрелкой 17415"/>
          <p:cNvCxnSpPr>
            <a:stCxn id="134" idx="2"/>
          </p:cNvCxnSpPr>
          <p:nvPr/>
        </p:nvCxnSpPr>
        <p:spPr>
          <a:xfrm>
            <a:off x="1788840" y="3638160"/>
            <a:ext cx="1080" cy="142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7" name="Соединительная линия уступом 19"/>
          <p:cNvCxnSpPr>
            <a:endCxn id="131" idx="3"/>
          </p:cNvCxnSpPr>
          <p:nvPr/>
        </p:nvCxnSpPr>
        <p:spPr>
          <a:xfrm rot="5400000">
            <a:off x="5955840" y="4348080"/>
            <a:ext cx="1692720" cy="286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8" name="Скругленный прямоугольник 1"/>
          <p:cNvSpPr/>
          <p:nvPr/>
        </p:nvSpPr>
        <p:spPr>
          <a:xfrm>
            <a:off x="395280" y="4076640"/>
            <a:ext cx="2305080" cy="2737080"/>
          </a:xfrm>
          <a:custGeom>
            <a:avLst/>
            <a:gdLst>
              <a:gd name="textAreaLeft" fmla="*/ 112320 w 2305080"/>
              <a:gd name="textAreaRight" fmla="*/ 2192760 w 2305080"/>
              <a:gd name="textAreaTop" fmla="*/ 112320 h 2737080"/>
              <a:gd name="textAreaBottom" fmla="*/ 2624760 h 2737080"/>
            </a:gdLst>
            <a:ahLst/>
            <a:rect l="textAreaLeft" t="textAreaTop" r="textAreaRight" b="textAreaBottom"/>
            <a:pathLst>
              <a:path w="21600" h="25647">
                <a:moveTo>
                  <a:pt x="3600" y="0"/>
                </a:moveTo>
                <a:arcTo wR="3600" hR="3600" stAng="16200000" swAng="-5400000"/>
                <a:lnTo>
                  <a:pt x="0" y="22047"/>
                </a:lnTo>
                <a:arcTo wR="3600" hR="3600" stAng="10800000" swAng="-5400000"/>
                <a:lnTo>
                  <a:pt x="18000" y="25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ходы на благоустройство территории Митякинского  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Прямая со стрелкой 4"/>
          <p:cNvCxnSpPr/>
          <p:nvPr/>
        </p:nvCxnSpPr>
        <p:spPr>
          <a:xfrm>
            <a:off x="1788840" y="3710160"/>
            <a:ext cx="1080" cy="367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1 квартал 2021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428840" y="83664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агоустро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Диаграмма 4"/>
          <p:cNvGraphicFramePr/>
          <p:nvPr/>
        </p:nvGraphicFramePr>
        <p:xfrm>
          <a:off x="306360" y="1298520"/>
          <a:ext cx="881388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98520"/>
                    <a:ext cx="881388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5"/>
          <p:cNvSpPr/>
          <p:nvPr/>
        </p:nvSpPr>
        <p:spPr>
          <a:xfrm>
            <a:off x="158760" y="25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1 квартал 2021 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Овал 3"/>
          <p:cNvSpPr/>
          <p:nvPr/>
        </p:nvSpPr>
        <p:spPr>
          <a:xfrm>
            <a:off x="1528920" y="1214280"/>
            <a:ext cx="6265800" cy="15717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Культура, кинематограф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675,7 тыс. рублей ( 15,0 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Блок-схема: альтернативный процесс 16"/>
          <p:cNvSpPr/>
          <p:nvPr/>
        </p:nvSpPr>
        <p:spPr>
          <a:xfrm>
            <a:off x="3203640" y="2924280"/>
            <a:ext cx="2397240" cy="107136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75,7 тыс. рублей (15,0 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Прямая со стрелкой 22"/>
          <p:cNvCxnSpPr>
            <a:endCxn id="146" idx="0"/>
          </p:cNvCxnSpPr>
          <p:nvPr/>
        </p:nvCxnSpPr>
        <p:spPr>
          <a:xfrm flipH="1">
            <a:off x="4401360" y="2781000"/>
            <a:ext cx="26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" name="Скругленный прямоугольник 13"/>
          <p:cNvSpPr/>
          <p:nvPr/>
        </p:nvSpPr>
        <p:spPr>
          <a:xfrm>
            <a:off x="1042920" y="4292640"/>
            <a:ext cx="7345440" cy="187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обеспечение деятельности (оказание услуг) муниципальных бюджетных учреждений Митякинского сельского поселения, в том числе на предоставление субсидий муниципальным бюджетным учреждениям Митякинского сельского поселения в рамках подпрограммы «Развитие культуры» муниципальной программы Митякинского сельского поселения «Развитие культур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75,7  тыс. рублей ( 15,0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Прямая со стрелкой 24"/>
          <p:cNvCxnSpPr>
            <a:stCxn id="146" idx="2"/>
            <a:endCxn id="148" idx="0"/>
          </p:cNvCxnSpPr>
          <p:nvPr/>
        </p:nvCxnSpPr>
        <p:spPr>
          <a:xfrm>
            <a:off x="4401720" y="3995280"/>
            <a:ext cx="31500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51" name="Диаграмма 3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61977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1 квартал 2021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785880" y="7650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льтура, кинематогра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Диаграмма 4"/>
          <p:cNvGraphicFramePr/>
          <p:nvPr/>
        </p:nvGraphicFramePr>
        <p:xfrm>
          <a:off x="-50760" y="1346040"/>
          <a:ext cx="9353520" cy="48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346040"/>
                    <a:ext cx="935352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84240" y="44280"/>
            <a:ext cx="903744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муниципального образования  «Митякинское сельское посел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за 1 квартал  2021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95280" y="1413000"/>
            <a:ext cx="842472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8.12.2020 № 26 «О бюджете Митякинского сельского  поселения Тарасовского района на 2021 год и на плановый период 2022 и 2023 годов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05.02.2021 №1 «О внесении изменений в решение Собрания депутатов Митякинского сельского поселения от 28.12.2020 №26 «О бюджете Митякинского сельского  поселения Тарасовского района на 2021 год и на плановый период 2022 и 2023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6.02.2021 №4 «О внесении изменений в решение Собрания депутатов Митякинского сельского поселения от 28.12.2020 №26 «О бюджете Митякинского сельского  поселения Тарасовского района на 2021 год и на плановый период 2022 и 2023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12.03.2021 №6 «О внесении изменений в решение Собрания депутатов Митякинского сельского поселения от 28.12.2020 №26 «О бюджете Митякинского сельского  поселения Тарасовского района на 2021 год и на плановый период 2022 и 2023 годов»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ктор экономики и финансов 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тякинского 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179280" y="442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Митякинского сельского поселения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2021 год и на плановый период 2022 и 2023 г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000080"/>
          <a:ext cx="877248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  <a:gridCol w="2192400"/>
                <a:gridCol w="2193840"/>
              </a:tblGrid>
              <a:tr h="714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</a:tr>
              <a:tr h="7142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385,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123,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028,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7142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69,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123,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028,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714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 183,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</a:tbl>
          </a:graphicData>
        </a:graphic>
      </p:graphicFrame>
      <p:sp>
        <p:nvSpPr>
          <p:cNvPr id="90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21 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179280" y="5445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ое исполнение бюджета Митякинского сельского поселения за 1 квартал  2021 года составило по доходам в сумме 5 025,1 тыс. рублей (17,1%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уточнённого плана) и по расходам в сумме 3 888,8 тыс. рублей (12,7 % от уточненного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доходам за 1 квартал 2021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785880"/>
          <a:ext cx="8642160" cy="5824440"/>
        </p:xfrm>
        <a:graphic>
          <a:graphicData uri="http://schemas.openxmlformats.org/drawingml/2006/table">
            <a:tbl>
              <a:tblPr/>
              <a:tblGrid>
                <a:gridCol w="5189400"/>
                <a:gridCol w="1266840"/>
                <a:gridCol w="1150920"/>
                <a:gridCol w="1035000"/>
              </a:tblGrid>
              <a:tr h="71100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1 г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1 квартал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04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 00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4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63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22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509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8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160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9356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68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0636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69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8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17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3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0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174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7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жбюджетные тра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65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5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38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2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оугольник 3"/>
          <p:cNvGrpSpPr/>
          <p:nvPr/>
        </p:nvGrpSpPr>
        <p:grpSpPr>
          <a:xfrm>
            <a:off x="-122400" y="30240"/>
            <a:ext cx="9394920" cy="920520"/>
            <a:chOff x="-122400" y="30240"/>
            <a:chExt cx="9394920" cy="920520"/>
          </a:xfrm>
        </p:grpSpPr>
        <p:pic>
          <p:nvPicPr>
            <p:cNvPr id="95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2400" y="30240"/>
              <a:ext cx="93949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Основные направления по доходам за 1 квартал 2021 г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97" name="Диаграмма 3"/>
          <p:cNvGraphicFramePr/>
          <p:nvPr/>
        </p:nvGraphicFramePr>
        <p:xfrm>
          <a:off x="61920" y="930240"/>
          <a:ext cx="8686800" cy="5676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920" y="930240"/>
                    <a:ext cx="8686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расходам за 1 квартал 2021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2240" y="857160"/>
          <a:ext cx="8843760" cy="497052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  <a:gridCol w="57636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21 г.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1 квартал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6 65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4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5 17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22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езервный фон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053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4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4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еспечение пожарной безопас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45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е хозяйство (дорожные фонды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7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60200" y="260280"/>
          <a:ext cx="8875800" cy="431316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423720"/>
                <a:gridCol w="432000"/>
                <a:gridCol w="1027080"/>
                <a:gridCol w="934920"/>
                <a:gridCol w="557280"/>
              </a:tblGrid>
              <a:tr h="127800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21г.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1 квартал, 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530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6 031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527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оммунальное 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01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5 631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182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офессиональная подготовка, переподготовка и повышение квалифик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487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 29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530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 29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527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65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5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2530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Социальное обеспечение насе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65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5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2527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  <a:tr h="2491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0 56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8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5"/>
          <p:cNvSpPr/>
          <p:nvPr/>
        </p:nvSpPr>
        <p:spPr>
          <a:xfrm>
            <a:off x="158760" y="12600"/>
            <a:ext cx="871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 1 квартал 2021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Содержимое 5"/>
          <p:cNvGraphicFramePr/>
          <p:nvPr/>
        </p:nvGraphicFramePr>
        <p:xfrm>
          <a:off x="568440" y="1916280"/>
          <a:ext cx="833112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1916280"/>
                    <a:ext cx="833112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1 квартал 2021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714680" y="1071720"/>
            <a:ext cx="6002280" cy="14396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бщегосударственные вопро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1 048,3 тыс. рублей (15,8 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Блок-схема: альтернативный процесс 7"/>
          <p:cNvSpPr/>
          <p:nvPr/>
        </p:nvSpPr>
        <p:spPr>
          <a:xfrm>
            <a:off x="539640" y="2924280"/>
            <a:ext cx="2664000" cy="220176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842,4 тыс. рублей (16,3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Блок-схема: альтернативный процесс 8"/>
          <p:cNvSpPr/>
          <p:nvPr/>
        </p:nvSpPr>
        <p:spPr>
          <a:xfrm>
            <a:off x="6156360" y="2565360"/>
            <a:ext cx="2879640" cy="9716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ругие общегосударственные вопро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5,9 тыс. рублей (19,6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Блок-схема: процесс 11"/>
          <p:cNvSpPr/>
          <p:nvPr/>
        </p:nvSpPr>
        <p:spPr>
          <a:xfrm>
            <a:off x="3492360" y="5535720"/>
            <a:ext cx="2374920" cy="1122120"/>
          </a:xfrm>
          <a:prstGeom prst="flowChart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Центральный аппара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842,4 тыс. рублей (16,3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Прямая со стрелкой 14"/>
          <p:cNvCxnSpPr>
            <a:stCxn id="106" idx="4"/>
            <a:endCxn id="107" idx="0"/>
          </p:cNvCxnSpPr>
          <p:nvPr/>
        </p:nvCxnSpPr>
        <p:spPr>
          <a:xfrm flipH="1">
            <a:off x="1871280" y="2511000"/>
            <a:ext cx="2845440" cy="41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17"/>
          <p:cNvCxnSpPr>
            <a:stCxn id="106" idx="5"/>
            <a:endCxn id="108" idx="0"/>
          </p:cNvCxnSpPr>
          <p:nvPr/>
        </p:nvCxnSpPr>
        <p:spPr>
          <a:xfrm>
            <a:off x="6837480" y="2300400"/>
            <a:ext cx="75960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44"/>
          <p:cNvCxnSpPr>
            <a:stCxn id="107" idx="2"/>
            <a:endCxn id="109" idx="0"/>
          </p:cNvCxnSpPr>
          <p:nvPr/>
        </p:nvCxnSpPr>
        <p:spPr>
          <a:xfrm>
            <a:off x="1871280" y="5126040"/>
            <a:ext cx="280908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Пользователь</cp:lastModifiedBy>
  <dcterms:modified xsi:type="dcterms:W3CDTF">2021-04-05T12:30:49Z</dcterms:modified>
  <cp:revision>3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